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3.png" ContentType="image/png"/>
  <Override PartName="/ppt/media/image2.png" ContentType="image/png"/>
  <Override PartName="/ppt/media/suction.wav" ContentType="audio/x-wav"/>
  <Override PartName="/ppt/media/image4.jpeg" ContentType="image/jpeg"/>
  <Override PartName="/ppt/media/laser.wav" ContentType="audio/x-wav"/>
  <Override PartName="/ppt/media/push.wav" ContentType="audio/x-wav"/>
  <Override PartName="/ppt/media/type.wav" ContentType="audio/x-wav"/>
  <Override PartName="/ppt/media/image1.png" ContentType="image/png"/>
  <Override PartName="/ppt/media/drumroll.wav" ContentType="audio/x-wav"/>
  <Override PartName="/ppt/media/image9.png" ContentType="image/png"/>
  <Override PartName="/ppt/media/image8.png" ContentType="image/png"/>
  <Override PartName="/ppt/media/coin.wav" ContentType="audio/x-wav"/>
  <Override PartName="/ppt/media/image7.png" ContentType="image/png"/>
  <Override PartName="/ppt/media/click.wav" ContentType="audio/x-wav"/>
  <Override PartName="/ppt/media/image6.png" ContentType="image/png"/>
  <Override PartName="/ppt/media/chimes.wav" ContentType="audio/x-wav"/>
  <Override PartName="/ppt/media/wind.wav" ContentType="audio/x-wav"/>
  <Override PartName="/ppt/media/explode.wav" ContentType="audio/x-wav"/>
  <Override PartName="/ppt/media/bomb.wav" ContentType="audio/x-wav"/>
  <Override PartName="/ppt/media/image5.jpeg" ContentType="image/jpeg"/>
  <Override PartName="/ppt/media/breez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934-F6F8-4F17-8C19-92035C99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DCD-2EAA-4273-AECB-5C363E4C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C5D-FDF8-4A66-80B5-DEFBBA6A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599-3DA0-4B4A-8D27-2BDF10A9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9DE4-FBE3-4D87-9D73-1B9F24C5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67BE-2022-4D3E-A11E-D701D11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8DE0-DA15-455A-BE8E-3A441537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0A85-599B-4D3F-B74C-7F3FD712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D1A2-42FE-4DE1-B7B7-87DE6AE3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DD95-A993-48DB-A662-5B0B24AF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E350-B6FF-4BCF-80A3-5C89CC62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2CE-42C9-483A-BC3A-A8EA689C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0B8F-BD9C-480E-955F-CADC09BD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E607-9FB4-469D-BB1F-98C9A3B4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48E1-E465-4423-9FF0-F35CA9ED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9006-86D0-420F-A194-82001399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015B-E101-42C6-BEEB-9243F39E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AEB88-CB1A-44C2-BA0F-515B8275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C59C2-58C5-407D-9DE1-C3A1DCD0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9667E-0637-40B9-A352-6629197A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996BA-39A2-427C-8F5B-55EDFCC3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06DE9-E697-4AFF-B4E8-B203BB49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639-81A2-416B-BB21-6A03857D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2CC57-679A-4E35-9315-2AE621F6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63D99-E786-4F4E-BCEE-45F23168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CDA91-C35F-4596-A53F-FAFC89E9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0E26A-77AE-44C4-A528-C2CFA016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2606E-4790-4727-86D8-0B475443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46075-340A-4C49-B2A1-7003A1BC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766EE-0E78-49FF-A09F-59B98BE8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BBC0-AB5E-476E-A5DA-B6C0DCBB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44316-B023-477A-8573-F2A0C9E1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F9E7-568C-4A77-B0BD-A019520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560-0A72-4745-BFDE-57C68473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00A94-365C-4481-8DDB-B097694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2602-A44A-4D4B-AA9B-6784791D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C574-8837-468F-9E93-A5B9554D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09AA5-AF41-4559-A8DD-525C8D75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4687-4E00-438B-954C-91DE66A6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911E7-8F24-4CF9-B57B-E1D55C9E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A7E71-6844-495A-BDE0-2D01051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C804-FC01-4FB8-87AA-CD4FF8CD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2945-F3DD-4F30-BF8A-A151BB23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80FA2-FADF-4646-8579-B348A7F7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3C8-71B8-4131-8AC9-D0A926DA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C99F7-AAC5-462F-B01A-7B2F983A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CF888-95A7-450B-A855-37013A6E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8DF19-9F59-40A3-8CFC-CF8AF1D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950D3-1994-4958-B23F-4C03E6E1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21DE7-D919-436C-A597-9E9B9726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CD9B6-CC88-497C-B40A-ED164070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BC1EF-B426-408D-A533-75B25F6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C28B2-FD3C-427C-AD05-AC5F214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F74BF-E85C-45BC-A027-4A5C2CCC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91AD4-9533-4ECB-AE12-BD6CB2C9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522-D19F-4039-BBBA-613232FA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E2519-A7FB-40BD-9DBE-3BDE12B1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4256-97C4-4E87-8BFE-DD716BFB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379BC-2D12-4176-B542-E88C2B52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D272-5765-4639-87E7-1EFAF5F2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65772-84EA-4504-8C06-04405076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782F-6131-4340-A56E-7EF645BF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5BE63-C521-4175-B08C-CD866234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446C-B48D-4343-82B0-5E0DF62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EFB0-1123-4C19-B228-923C7131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F842-50EF-4D9A-82D7-D8F76BFE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3E8-44E0-4F39-8DE7-B585DD9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B83DD-C6AC-4ABA-B654-FB90071B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A74CE-7BA1-471D-8F42-254D71D6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A943-BF1C-45DE-B429-E235CDF7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59E-0A9B-4FF7-8675-2ECE222F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835-703C-4144-8850-E7693AFA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1CFD-0E6F-4717-B624-662A1C4A74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39CE-9518-480F-8823-77319CCD67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5572-D408-409E-8611-A2653B48AD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70B5-EEC0-4035-8BE7-C3515DDEBF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4376-D9A9-4DFE-9F25-2BBA2520D3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33A7-2B79-4EC4-8D13-75A136676E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dc.gov/" TargetMode="External"/><Relationship Id="rId2" Type="http://schemas.openxmlformats.org/officeDocument/2006/relationships/hyperlink" Target="http://www.who.org/" TargetMode="External"/><Relationship Id="rId3" Type="http://schemas.openxmlformats.org/officeDocument/2006/relationships/hyperlink" Target="http://www.webmd.com/" TargetMode="External"/><Relationship Id="rId4" Type="http://schemas.openxmlformats.org/officeDocument/2006/relationships/hyperlink" Target="http://www.emedicinehealth.com/" TargetMode="External"/><Relationship Id="rId5" Type="http://schemas.openxmlformats.org/officeDocument/2006/relationships/hyperlink" Target="http://www.images.google.com/" TargetMode="External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lick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breeze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atou Gumaneh and Bianca Ob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90920" y="1676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Hepatitis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fad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alys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st way to solve this problem is to make sure everyone has the proper shots to take care of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should also get tested before sexual intercour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ww.cdc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www.who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www.webmd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www.emedicinehealth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www.images.google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Symptoms of Hepatitis B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v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igu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appeti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us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mit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dominal 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k ur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y-colored bowel movem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undice (Discolo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00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ransmiss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patitis B can be transmitted by the following th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 items such as razors or toothbrushes with an infected pers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 with an infected partn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le sticks or sharp instrument exposur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ion drug use that involves sharing needles, syringes, or drug-preparation equip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th to an infected mot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 with blood or open sores of an infected pers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974880" y="1027080"/>
            <a:ext cx="763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You cannot get Hepatitis B from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ing sneezed or coughed 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ug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ndsha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sual contact (such as an office or social sett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eastfe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ating food or drinking wa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  <p:sndAc>
      <p:stSnd>
        <p:snd r:embed="rId1" name="suction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3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causes it?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caused by the virus HBV (hepatitis B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rm and saliva, which contain small amounts of blood, also carry the vir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picture showing a liver that is infected with Hepatitis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4648320" cy="3162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ates of people with HB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059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,8,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80808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can it be foun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.S is where Hepatitis be is commonly fou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United States, hepatitis B is largely a disease of young adults aged 20-50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ease causes about 5000 deaths each year.  Roughly 1.25 million people carry chronic Hepatitis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How can it be prevented or treated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have chronic hepatitis B, you should see your health care provider regular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ugs like: interferon, epivir, hepsera, and baraclude can be given to  help to restore liver function and get rid of  HB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also vaccinations to help against HB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9:41:48Z</dcterms:created>
  <dc:creator>Custom</dc:creator>
  <dc:description/>
  <dc:language>en-US</dc:language>
  <cp:lastModifiedBy>Custom</cp:lastModifiedBy>
  <dcterms:modified xsi:type="dcterms:W3CDTF">2010-03-04T19:19:05Z</dcterms:modified>
  <cp:revision>20</cp:revision>
  <dc:subject/>
  <dc:title>Hepatitis B </dc:title>
</cp:coreProperties>
</file>